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BDD-F01A-4F2B-B16B-5DF3E459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684-16DC-4108-810D-0F016EB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9CA-EE4A-4E83-8E23-36291EF1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D7E-D259-4F89-963F-F07952F8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7D87-2D27-48FC-9F69-31B448E1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1ED4-0757-464F-AC63-DBE02BE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2FD-6163-47D0-B00D-5A7AE73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272-0B2F-4454-90AA-E403F997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66E9-CCC7-4915-906D-DF1025E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44AF-FBDA-4B69-BF32-DDB4A3D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8AF7-2F12-43F3-884F-C9F9D28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EC9-57D7-4AC5-AD74-C89B07BA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9040-CE24-4DDA-A9BC-5DF3E2F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070E-2B9B-4D54-9B89-61916C0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5346-370F-40AA-8418-6555F86F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539B-9084-456F-8476-3E20D4A7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77F8-51B7-4629-87C0-040253AD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80D-47AA-455B-A38A-19E6F1A5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666-5210-475E-8D07-BC0CF8E2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B44-F86E-41C7-A9E2-DFC503E4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D89-CB6C-4AE6-A532-51CDEFAF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2E3-CC6C-4370-8C24-4CE37ADE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56A-F87D-4E16-A922-10CB5B7C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2DA-C442-4ED1-9DFE-583952B5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787-5BB7-4F2E-AEA2-2728561829FE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8336-6477-4074-8F76-2B472EFF403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alenciacc.edu/lrcwest/kaysmith.html" TargetMode="External"/><Relationship Id="rId3" Type="http://schemas.openxmlformats.org/officeDocument/2006/relationships/hyperlink" Target="http://valenciacc.edu/lrcwest/kaysmith.html" TargetMode="External"/><Relationship Id="rId4" Type="http://schemas.openxmlformats.org/officeDocument/2006/relationships/hyperlink" Target="http://lynn_meade.tripod.com/id89.h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peeches – Getting Start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elp in choosing a topic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Ask yourself: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am I interested in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do I spend time doing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do I watch/read/listen to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clubs/sports do I belong to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is important to me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189000"/>
            <a:ext cx="7077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ample topic and web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593720"/>
            <a:ext cx="83725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opic – Ballet is better than HipHop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505320"/>
            <a:ext cx="2514600" cy="1066680"/>
          </a:xfrm>
          <a:prstGeom prst="ellipse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ALL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72200" y="3200400"/>
            <a:ext cx="990720" cy="5335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572000"/>
            <a:ext cx="457200" cy="9907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4343400"/>
            <a:ext cx="1143000" cy="6858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029200" y="2666520"/>
            <a:ext cx="0" cy="8384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276360" y="3124080"/>
            <a:ext cx="1066680" cy="5335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95120" y="4191120"/>
            <a:ext cx="11430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62520" y="4495680"/>
            <a:ext cx="457200" cy="6858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4572000"/>
            <a:ext cx="152280" cy="12193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819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4876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Royal Academy standar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22096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666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lassical music linked to math skill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Gracefu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590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Highly disciplin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Less likely to break limb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etty cloth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HipHop - Gangst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6707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HipHop – dangerous free-for-al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5105520"/>
            <a:ext cx="11430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ample Char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593720"/>
            <a:ext cx="79153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For Ballet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For HipHo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iplin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ss ru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ice clothes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wn sty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assical music – mat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nlikely to break limb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Still stuck? </a:t>
            </a: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Sites for possible topics…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84488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valenciacc.edu/lrcwest/kaysmith.html</a:t>
            </a: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4"/>
              </a:rPr>
              <a:t>http://lynn_meade.tripod.com/id89.htm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(Thanks Cody!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oday: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02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y the end of class finish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opi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b diag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hart (optional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on research for web diagram – remember to cite source (author/addres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1:24:56Z</dcterms:created>
  <dc:creator>rebecca.kemshall</dc:creator>
  <dc:description/>
  <dc:language>en-US</dc:language>
  <cp:lastModifiedBy>rebecca.kemshall</cp:lastModifiedBy>
  <dcterms:modified xsi:type="dcterms:W3CDTF">2006-02-08T15:28:44Z</dcterms:modified>
  <cp:revision>1</cp:revision>
  <dc:subject/>
  <dc:title>Speeches – Getting Started</dc:title>
</cp:coreProperties>
</file>